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1993993"/>
        <c:axId val="26707733"/>
      </c:barChart>
      <c:catAx>
        <c:axId val="9199399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707733"/>
        <c:crosses val="autoZero"/>
        <c:auto val="1"/>
        <c:lblAlgn val="ctr"/>
        <c:lblOffset val="100"/>
        <c:noMultiLvlLbl val="0"/>
      </c:catAx>
      <c:valAx>
        <c:axId val="2670773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199399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8211-38F6-4A09-9B84-7FBEC35DE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47E7-408A-49D2-BDE3-F3D7458DE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C700-867A-4E08-9F43-8A092D8F9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9283C-8FFE-4AF9-AFDB-65CC2FF44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B8F0D-3AB0-4BC9-AFF0-C612A8F13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E62EC-66F9-4BBD-9B11-35A2BC5FD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06B58-FB2B-48C0-B27B-D24ABA54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BC620-6EC9-43EA-A834-6B9A38118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5F9B2-4081-469C-80AA-2BA350DA4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039CD-4F0D-4AAB-BAFE-330C800CB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3E0CC-D704-40CE-91E8-9D4216AD8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DF3DB-0E3F-4807-A30B-FAA5CE6B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7DCDE-75C4-4622-BEA5-78FBF039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AE38-AE74-4BA0-A990-A8C1B9C09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BD526-B3C7-42CA-83FB-7CCBD8955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AF6D9-B6AD-4E69-9276-C08B5D5BA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1C0FD-EF66-4C49-B993-1149A88E5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5EC34-208D-4691-ACA3-B4449CF1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3DD7D-708E-41E7-A5A8-C2E44053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BC663-561D-4D5C-8252-FAB065FA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5AD46-1593-4A03-830D-AF6B478D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EB20-325C-4CBE-9E08-57DAF8C0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488D-4BD3-445F-A6E5-1633432F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7A56-0D8B-484E-BBE0-40D249A24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E187C-7EA6-498F-B94C-6FD29F0ADDC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86ECE1-5FC5-4BA0-94F2-AC01B005903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